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45BB-A507-434D-8C9A-8310E205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5780-A56D-4906-9EFB-0918F372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8416-763D-4E5C-9DE2-88AA525C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68D6-E4CC-4158-B679-BE65D7C3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A8D1-74F2-4763-A8CB-EDB53B7D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1B25-F3BC-4D38-8DBF-4CC9542D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2A24-370F-4325-BD8A-57229E5D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CE2F-5006-4167-B852-F58B8734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BB6E-FA61-4EBF-B630-C96C3337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2758-4FFE-4091-B24C-DABF351D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3E2E-850F-42C3-B825-30BFE4F6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DE2-283F-424B-ADB0-A7191FF2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CA82-59ED-41F1-877A-113B857F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B07B-72B4-4B18-AADB-2107F55D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B55B-9E55-4AB0-BDF8-F9DA9B8F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332B-D9C1-4E3C-BAB8-741DA6AD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4469-186D-4663-8B42-8012B945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BF4-A57B-43AA-9988-3098475F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627A-D275-4EC2-8A34-00F2AE80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1F04-2276-4CFF-B801-2D8322AE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44CC-0D41-45B4-B16C-F6746613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4C4-D0F8-46B9-921B-E0608699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A07-04D8-4B94-8004-35ADD2C8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6CE4-61BB-4956-B959-84F67D00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AA80-60BB-42B2-B1BA-BE93DB4EBFE7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F360-1235-4EF5-BDCD-57B945C7C706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Support - Hardware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Troubleshooting the Interactive Whiteboard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tep 1 Break into groups of 2. One teacher and   one Tech Team member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tep 2 The “teacher” will state an issue the whiteboard is having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tep 3 The “squad member” will troubleshoot the issue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tep 4 Reverse the roles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hare what scenarios you acted out and how you handled the situation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re there any other issues you can think about that we haven’t discussed today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id we troubleshoot the Whiteboard issues? 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hat are some of the issues your teacher is having with their whiteboard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How can we fix these problems?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After completing this session you will be able to help your teachers troubleshoot whiteboard issu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Determine which of the following issues you are having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oun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Orientating the Whiteboar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hiteboard light signal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oun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heck that the power to the speakers are connected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urn on the speakers (you should see a green light.) Make sure to turn them on before you connect to your computer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Make sure there is sound on your computer and that it is not muted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heck your sound properties by right clicking on the sound icon on your taskbar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Orientating the Whiteboar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on the keyboard button and right click button on the Whiteboard tray at the same time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on the center of each cross. Make sure you are clicking on the tiny yellow circle in the middle of the cros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f you make a mistake click the keyboard button and continue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ignal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teady Green Light – The Whiteboard is ready to go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Blinking Green Light – Software issue. You may have to reinstall the Whiteboard software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Red Light – No power is going to the Whiteboard. Check for loose connections and faulty wiring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it is your turn to follow the trouble shooting step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ach student will have a chance to fix the 3 problems listed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E</cp:lastModifiedBy>
  <dcterms:modified xsi:type="dcterms:W3CDTF">2008-10-22T11:21:52Z</dcterms:modified>
  <cp:revision>5</cp:revision>
  <dc:subject/>
  <dc:title>Workshop Title</dc:title>
</cp:coreProperties>
</file>